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0E7-EF7F-467B-A5D7-A58F6912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4E6-2161-451D-99B1-EFE023E0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38A-A200-42A8-BEEC-B78FCB60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91D-DBBB-4B45-B1A0-A196CDAC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191-8C3C-428F-8372-C53FBCF6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45F-8B07-466F-A735-5ADE6FE5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53D-28F2-4CD2-B2FF-FC1BF314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F46-2DB8-440E-BC18-41C5E80C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258-FA4E-454A-9731-334E1CC0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C3B-133F-4ECD-955A-9E4C7BCE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310-BD7F-4C42-BAD9-395CA1C9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B52-6606-42C7-BE03-2A02588C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B9E6-FE77-46B9-B8BE-442958BAD6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440" y="2209680"/>
            <a:ext cx="428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alculat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  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781680" cy="16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781680" cy="1444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19320" y="3657600"/>
            <a:ext cx="6781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4674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467480" cy="138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467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760" y="2057400"/>
            <a:ext cx="712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etermin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erson-Time (P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91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90920" y="335268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962520"/>
            <a:ext cx="152424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239240" cy="4952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0920" y="32076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8:36Z</dcterms:modified>
  <cp:revision>183</cp:revision>
  <dc:subject/>
  <dc:title>Slide 1</dc:title>
</cp:coreProperties>
</file>